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FBC-A978-48DD-A97F-106A8433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C61-7B2A-411C-9F82-B65CC72D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F95-2C94-4E36-8738-0C4EBD39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052-945D-4DF9-B673-1AA82F62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CA1-3296-4575-AAEB-C8C6DB89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2F2-77DF-4BD0-9EDB-39AE6020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24E-ADD3-4E90-AFA5-6B68B3BB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650-68F0-4DCD-A7EC-FD63D0F6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200-556E-4AAA-99D0-68AA2767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348-B0ED-44AE-ADC6-FDF731DE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B77-0B44-4A20-BB3B-02B63FF0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D06-6929-48C3-B324-F1496D18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741-D96A-4CB4-8AA7-549822499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Me llamo _________         Clase 801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La fecha es el 15 de septiembre del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Propósito # 4: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¿Como eres tú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I- Conjuga el verbo S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II- Completa con la forma correcta del verbo S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Héctor ______ muy intelig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Yo no _______ pelirroj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Mis amigos y yo ________ estudi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_______ tú un(a) buen(a) alumn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Vosotros _________ estadounidens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upe y José ________ amig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93640" y="2255760"/>
          <a:ext cx="7620120" cy="1706760"/>
        </p:xfrm>
        <a:graphic>
          <a:graphicData uri="http://schemas.openxmlformats.org/drawingml/2006/table">
            <a:tbl>
              <a:tblPr/>
              <a:tblGrid>
                <a:gridCol w="1600200"/>
                <a:gridCol w="1790640"/>
                <a:gridCol w="2248200"/>
                <a:gridCol w="1981080"/>
              </a:tblGrid>
              <a:tr h="4269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 (to b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41"/>
          <p:cNvSpPr/>
          <p:nvPr/>
        </p:nvSpPr>
        <p:spPr>
          <a:xfrm>
            <a:off x="4403880" y="361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 Escribe en Plu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hico es estadounid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chacha es bon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olegio es mod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urso es fa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601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II. Copia y completa con la forma correcta de SER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ara, ¿De dónde ______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¿_______ de Florida o de Cuba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Yo ______ de Cub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h, ___________ cubanoamerican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i. Y tú, ¿De dónde ___________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¿Yo? Yo _______ de Dall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Yo ______ mexicanoamerican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- Completa con la forma correcta del verbo 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padre _______ abogad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law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padre ____ español y mi madre ___ norteameri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hermano y yo ________ ru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s padres también ______ ru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no _______ al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 flaco, pero mi hermano ____ gor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s dos hermanas ____ enfermera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nurses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; ellas ______ muy intel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________ tú? ¿________ alto o bajo, flaco o gor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mi amigo. Tú ______ peruano, yo ______ norteameric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- Responde en oraciones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d. sociable o tímido/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d. alto/a o bajo/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on Uds. franceses o norteameric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on Uds. ricos o pob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sted una persona alegre o tri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: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un 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76320" y="2544840"/>
            <a:ext cx="14475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c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371600" y="236232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leg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3"/>
          <a:stretch/>
        </p:blipFill>
        <p:spPr>
          <a:xfrm>
            <a:off x="3962520" y="1143000"/>
            <a:ext cx="117144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2971800" y="266688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rofesor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71800" y="304812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aestro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5567400" y="1098720"/>
            <a:ext cx="1824120" cy="1415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5638680" y="2438280"/>
            <a:ext cx="17528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alum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486400" y="2895480"/>
            <a:ext cx="21337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tudi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"/>
          <p:cNvPicPr/>
          <p:nvPr/>
        </p:nvPicPr>
        <p:blipFill>
          <a:blip r:embed="rId5"/>
          <a:stretch/>
        </p:blipFill>
        <p:spPr>
          <a:xfrm>
            <a:off x="228600" y="3581280"/>
            <a:ext cx="2109960" cy="1071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7543800" y="262080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ochi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6"/>
          <a:stretch/>
        </p:blipFill>
        <p:spPr>
          <a:xfrm>
            <a:off x="2743200" y="3657600"/>
            <a:ext cx="130176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7"/>
          <a:stretch/>
        </p:blipFill>
        <p:spPr>
          <a:xfrm>
            <a:off x="7772400" y="914400"/>
            <a:ext cx="109368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"/>
          <p:cNvPicPr/>
          <p:nvPr/>
        </p:nvPicPr>
        <p:blipFill>
          <a:blip r:embed="rId8"/>
          <a:stretch/>
        </p:blipFill>
        <p:spPr>
          <a:xfrm>
            <a:off x="5867280" y="35053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"/>
          <p:cNvPicPr/>
          <p:nvPr/>
        </p:nvPicPr>
        <p:blipFill>
          <a:blip r:embed="rId9"/>
          <a:stretch/>
        </p:blipFill>
        <p:spPr>
          <a:xfrm>
            <a:off x="4267080" y="3733920"/>
            <a:ext cx="1685880" cy="154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"/>
          <p:cNvPicPr/>
          <p:nvPr/>
        </p:nvPicPr>
        <p:blipFill>
          <a:blip r:embed="rId10"/>
          <a:stretch/>
        </p:blipFill>
        <p:spPr>
          <a:xfrm>
            <a:off x="7696080" y="3657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3"/>
          <p:cNvSpPr/>
          <p:nvPr/>
        </p:nvSpPr>
        <p:spPr>
          <a:xfrm>
            <a:off x="533520" y="4648320"/>
            <a:ext cx="1447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us esco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2590920" y="5410080"/>
            <a:ext cx="16761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uad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648320" y="495288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ápi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6400800" y="48006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lu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7848720" y="5334120"/>
            <a:ext cx="1143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ib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1143000" y="6019920"/>
            <a:ext cx="7010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Verdana"/>
              </a:rPr>
              <a:t>Materiales Escola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6:50Z</dcterms:created>
  <dc:creator>Helen Zumaeta</dc:creator>
  <dc:description/>
  <dc:language>en-US</dc:language>
  <cp:lastModifiedBy>Helen Zumaeta</cp:lastModifiedBy>
  <cp:lastPrinted>2014-09-15T15:36:18Z</cp:lastPrinted>
  <dcterms:modified xsi:type="dcterms:W3CDTF">2014-09-15T17:43:46Z</dcterms:modified>
  <cp:revision>13</cp:revision>
  <dc:subject/>
  <dc:title>Me llamo _________         Clase 6NH/IL La fecha es el 16 de diciembre del 2010</dc:title>
</cp:coreProperties>
</file>